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F9E-0B67-4BD4-9E87-2B48353B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A22-734A-49EB-AE57-691B252D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7BA-AA23-401F-9D72-C10A7B60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497-B178-4408-BCFC-48B80C23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D51-102B-4389-991F-E0FCE683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7F0-A595-43F1-8A96-09EEB7DA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B4E-CCFA-4A5F-8F32-552E65A1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D25-DD1B-4AF4-B6B9-D0DE58B2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DDC-6F51-4CC1-B051-FCAD991C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07E-D46C-4A38-AECB-72252593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AA0-3BCE-4808-AECE-D8555EAD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2C5-7297-454F-BCC6-12420E46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058A55-4E04-40B3-9509-D128682F8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AVILON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 areálu spol. Veletrhy Brno, a. 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ODROBNÝ PRŮZKUM STÁVAJÍCÍ STŘECHY</a:t>
            </a:r>
            <a:r>
              <a:rPr b="1" lang="en-US" sz="10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19T07:58:01Z</dcterms:modified>
  <cp:revision>141</cp:revision>
  <dc:subject/>
  <dc:title>bez titulu</dc:title>
</cp:coreProperties>
</file>